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CCA-4223-4A29-8D87-E533470D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054-239A-45DF-A20C-78CCFAE4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7F1-1031-4156-9298-25CE556C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5B5-00ED-4DEC-B12F-BC670288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749-3B51-46F4-AD5F-FA11118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882-4D72-4324-B2E6-E94CF99C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676-B98B-4937-B17E-314A8E02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52C-ACD4-470F-92CC-B88A7D24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508-2567-4402-AA26-49D75EF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BAE-A359-4074-BFD9-51658D0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C35-F231-4D33-B364-DBF326F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655-B158-4228-812A-4AB8EF7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9B8-342F-49FE-B601-BB26810B91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iosintesis de carbohidr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258920" y="2133720"/>
            <a:ext cx="3889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16000" y="3645000"/>
            <a:ext cx="4464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geno-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8360" y="4869000"/>
            <a:ext cx="7696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ff"/>
                </a:solidFill>
                <a:latin typeface="Times New Roman"/>
              </a:rPr>
              <a:t>Los procesos de biosíntesis no son nunca la simple inversion de las correspondientes rutas cata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gulacion de la Glucó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71640" y="1700280"/>
            <a:ext cx="698508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ay una regulación recíproca entre la glucógenogenesis y la glucó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3962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562720" y="4038480"/>
            <a:ext cx="289548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ó Menos 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1600200" y="3733920"/>
            <a:ext cx="2971800" cy="990360"/>
            <a:chOff x="1600200" y="3733920"/>
            <a:chExt cx="2971800" cy="990360"/>
          </a:xfrm>
        </p:grpSpPr>
        <p:sp>
          <p:nvSpPr>
            <p:cNvPr id="111" name="Text Box 8"/>
            <p:cNvSpPr/>
            <p:nvPr/>
          </p:nvSpPr>
          <p:spPr>
            <a:xfrm>
              <a:off x="1600200" y="3809880"/>
              <a:ext cx="1600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Glucogeno sintas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3429000" y="380988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3429000" y="434340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4191120" y="373392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4191120" y="426708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32004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>
              <a:off x="320040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1143000" y="5334120"/>
            <a:ext cx="3124080" cy="990360"/>
            <a:chOff x="1143000" y="5334120"/>
            <a:chExt cx="3124080" cy="990360"/>
          </a:xfrm>
        </p:grpSpPr>
        <p:grpSp>
          <p:nvGrpSpPr>
            <p:cNvPr id="119" name="Group 16"/>
            <p:cNvGrpSpPr/>
            <p:nvPr/>
          </p:nvGrpSpPr>
          <p:grpSpPr>
            <a:xfrm>
              <a:off x="1143000" y="5334120"/>
              <a:ext cx="3124080" cy="990360"/>
              <a:chOff x="1143000" y="5334120"/>
              <a:chExt cx="3124080" cy="990360"/>
            </a:xfrm>
          </p:grpSpPr>
          <p:sp>
            <p:nvSpPr>
              <p:cNvPr id="120" name="AutoShape 17"/>
              <p:cNvSpPr/>
              <p:nvPr/>
            </p:nvSpPr>
            <p:spPr>
              <a:xfrm>
                <a:off x="1143000" y="5334120"/>
                <a:ext cx="2209680" cy="990360"/>
              </a:xfrm>
              <a:prstGeom prst="parallelogram">
                <a:avLst>
                  <a:gd name="adj" fmla="val 5578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8"/>
              <p:cNvSpPr/>
              <p:nvPr/>
            </p:nvSpPr>
            <p:spPr>
              <a:xfrm>
                <a:off x="1523880" y="533412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Glucogeno sintasa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3504960" y="5334120"/>
                <a:ext cx="76212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3200400" y="5867280"/>
                <a:ext cx="761760" cy="304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1"/>
              <p:cNvSpPr/>
              <p:nvPr/>
            </p:nvSpPr>
            <p:spPr>
              <a:xfrm>
                <a:off x="3276360" y="5486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22"/>
            <p:cNvSpPr/>
            <p:nvPr/>
          </p:nvSpPr>
          <p:spPr>
            <a:xfrm>
              <a:off x="2971800" y="601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23"/>
          <p:cNvSpPr/>
          <p:nvPr/>
        </p:nvSpPr>
        <p:spPr>
          <a:xfrm>
            <a:off x="4419720" y="5486400"/>
            <a:ext cx="1143000" cy="38088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4800600" y="3886200"/>
            <a:ext cx="609480" cy="3049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-)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Adrenalina ó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Hormonal de la    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Ca</a:t>
            </a:r>
            <a:r>
              <a:rPr b="1" lang="es-MX" sz="2400" spc="-1" strike="noStrike" baseline="30000">
                <a:solidFill>
                  <a:srgbClr val="333399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Glucógeno sintet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89000" y="714240"/>
            <a:ext cx="8793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85640" y="500040"/>
            <a:ext cx="8015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675640" cy="551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LUGAR PRINCIPALMENTE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C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PROCESO QUE 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LA VIA GLUCONEOGEN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IENE TRES REACCIONES DIFERENTES A LA 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S TRES REACCIONES IRREVERSIBLES SON REVERTIDAS POR TRES ENZIMA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ENOLPIRUVATO CARBOXI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RUCTOSA-1,6-BIS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87200" y="1074600"/>
            <a:ext cx="471168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74027"/>
                </a:solidFill>
                <a:latin typeface="Arial"/>
                <a:ea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440" y="3738600"/>
            <a:ext cx="758736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067280" y="2205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4140360" y="249408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73080" y="4797360"/>
            <a:ext cx="831528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FOSFOENOL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716360" y="5805360"/>
            <a:ext cx="41036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SOENZIMAS CITOSOLICA Y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FOSFOENOL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1116000" y="5553000"/>
            <a:ext cx="1484280" cy="53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2465280" y="5084640"/>
            <a:ext cx="1314720" cy="540000"/>
          </a:xfrm>
          <a:custGeom>
            <a:avLst/>
            <a:gdLst>
              <a:gd name="textAreaLeft" fmla="*/ 230040 w 1314720"/>
              <a:gd name="textAreaRight" fmla="*/ 953280 w 131472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3132000" y="5624640"/>
            <a:ext cx="1484280" cy="529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556000" y="5084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3132000" y="3357720"/>
            <a:ext cx="289080" cy="1079280"/>
          </a:xfrm>
          <a:custGeom>
            <a:avLst/>
            <a:gdLst>
              <a:gd name="textAreaLeft" fmla="*/ 38520 w 289080"/>
              <a:gd name="textAreaRight" fmla="*/ 250560 w 2890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RUCTOSA-1,6-BISFOSFATA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2"/>
          <p:cNvSpPr/>
          <p:nvPr/>
        </p:nvSpPr>
        <p:spPr>
          <a:xfrm>
            <a:off x="0" y="2924280"/>
            <a:ext cx="4572000" cy="28098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268360" y="4653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39640" y="6021360"/>
            <a:ext cx="1657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11280" y="4437000"/>
            <a:ext cx="14396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429000"/>
            <a:ext cx="19461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843280" y="3573360"/>
            <a:ext cx="115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050920" y="1989000"/>
            <a:ext cx="129708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140360" y="2276640"/>
            <a:ext cx="1944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1116000" y="5372280"/>
            <a:ext cx="35892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916360" y="2924280"/>
            <a:ext cx="35856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87280" y="566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1413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1258920" y="4941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1116000" y="4005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 rot="5400000">
            <a:off x="2447640" y="3608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3059280" y="3213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3059280" y="2492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9"/>
          <p:cNvSpPr/>
          <p:nvPr/>
        </p:nvSpPr>
        <p:spPr>
          <a:xfrm rot="5400000">
            <a:off x="3636000" y="2061000"/>
            <a:ext cx="142920" cy="719280"/>
          </a:xfrm>
          <a:prstGeom prst="upArrow">
            <a:avLst>
              <a:gd name="adj1" fmla="val 50000"/>
              <a:gd name="adj2" fmla="val 12581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6300720" y="2349360"/>
            <a:ext cx="302436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10637400">
            <a:off x="7308360" y="278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 rot="10637400">
            <a:off x="7451280" y="3573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5292720" y="51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 rot="10637400">
            <a:off x="7524000" y="4436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 rot="10637400">
            <a:off x="7451280" y="537336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6948360" y="3141720"/>
            <a:ext cx="1152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7093080" y="3933720"/>
            <a:ext cx="1152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7020000" y="4797360"/>
            <a:ext cx="165564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,3-B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7093080" y="5877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4859280" y="6165720"/>
            <a:ext cx="1152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D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4500720" y="5589720"/>
            <a:ext cx="1944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1,6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4603680" y="4653000"/>
            <a:ext cx="148104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4500720" y="3716280"/>
            <a:ext cx="148104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4284720" y="2924280"/>
            <a:ext cx="1942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6"/>
          <p:cNvSpPr/>
          <p:nvPr/>
        </p:nvSpPr>
        <p:spPr>
          <a:xfrm rot="19270200">
            <a:off x="6084720" y="5877000"/>
            <a:ext cx="997200" cy="5778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7"/>
          <p:cNvSpPr/>
          <p:nvPr/>
        </p:nvSpPr>
        <p:spPr>
          <a:xfrm>
            <a:off x="5292720" y="4221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8"/>
          <p:cNvSpPr/>
          <p:nvPr/>
        </p:nvSpPr>
        <p:spPr>
          <a:xfrm>
            <a:off x="5219640" y="33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9"/>
          <p:cNvSpPr/>
          <p:nvPr/>
        </p:nvSpPr>
        <p:spPr>
          <a:xfrm rot="10800000">
            <a:off x="5508360" y="4220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0"/>
          <p:cNvSpPr/>
          <p:nvPr/>
        </p:nvSpPr>
        <p:spPr>
          <a:xfrm>
            <a:off x="7524720" y="2781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1"/>
          <p:cNvSpPr/>
          <p:nvPr/>
        </p:nvSpPr>
        <p:spPr>
          <a:xfrm>
            <a:off x="7667640" y="3573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2"/>
          <p:cNvSpPr/>
          <p:nvPr/>
        </p:nvSpPr>
        <p:spPr>
          <a:xfrm>
            <a:off x="7740720" y="4437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3"/>
          <p:cNvSpPr/>
          <p:nvPr/>
        </p:nvSpPr>
        <p:spPr>
          <a:xfrm>
            <a:off x="7669080" y="537372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4"/>
          <p:cNvSpPr/>
          <p:nvPr/>
        </p:nvSpPr>
        <p:spPr>
          <a:xfrm>
            <a:off x="8280360" y="4076640"/>
            <a:ext cx="8636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5"/>
          <p:cNvSpPr/>
          <p:nvPr/>
        </p:nvSpPr>
        <p:spPr>
          <a:xfrm>
            <a:off x="1258920" y="3716280"/>
            <a:ext cx="865080" cy="936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6"/>
          <p:cNvSpPr/>
          <p:nvPr/>
        </p:nvSpPr>
        <p:spPr>
          <a:xfrm>
            <a:off x="2050920" y="4005360"/>
            <a:ext cx="6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7"/>
          <p:cNvSpPr/>
          <p:nvPr/>
        </p:nvSpPr>
        <p:spPr>
          <a:xfrm>
            <a:off x="8748720" y="4653000"/>
            <a:ext cx="4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8"/>
          <p:cNvSpPr/>
          <p:nvPr/>
        </p:nvSpPr>
        <p:spPr>
          <a:xfrm>
            <a:off x="5796000" y="1557360"/>
            <a:ext cx="1081080" cy="861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9"/>
          <p:cNvSpPr/>
          <p:nvPr/>
        </p:nvSpPr>
        <p:spPr>
          <a:xfrm>
            <a:off x="6877080" y="1628640"/>
            <a:ext cx="719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0"/>
          <p:cNvSpPr/>
          <p:nvPr/>
        </p:nvSpPr>
        <p:spPr>
          <a:xfrm>
            <a:off x="7991640" y="5229360"/>
            <a:ext cx="1152360" cy="647640"/>
          </a:xfrm>
          <a:custGeom>
            <a:avLst/>
            <a:gdLst>
              <a:gd name="textAreaLeft" fmla="*/ 0 w 1152360"/>
              <a:gd name="textAreaRight" fmla="*/ 1152360 w 115236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1"/>
          <p:cNvSpPr/>
          <p:nvPr/>
        </p:nvSpPr>
        <p:spPr>
          <a:xfrm>
            <a:off x="2124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TAPAS DE LA 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 rot="5842200">
            <a:off x="6192000" y="238428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4952880" y="4653000"/>
            <a:ext cx="4191120" cy="167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38080" y="3276720"/>
            <a:ext cx="6705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332000" y="1700280"/>
            <a:ext cx="691344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Tiene lugar principalmente en los anim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971640" y="4365720"/>
            <a:ext cx="2743200" cy="1991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ECURS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T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095880" y="487692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        Glu-6-P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809880" y="4952880"/>
            <a:ext cx="914400" cy="381240"/>
          </a:xfrm>
          <a:custGeom>
            <a:avLst/>
            <a:gdLst>
              <a:gd name="textAreaLeft" fmla="*/ 159840 w 914400"/>
              <a:gd name="textAreaRight" fmla="*/ 663120 w 914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759000">
            <a:off x="4342680" y="55623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itoplasm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6948360" y="50133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6553080" y="56386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BIOSINTESIS DE GLUCOGENO GLUCOGENO-GEN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38040" y="1628640"/>
            <a:ext cx="869796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(Hígado y riñ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ACCION 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STA ENZIMA NO SE ENCUENTRA EN MU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5506920" y="292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A PARTIR DE GLUCOSA-6-FOSF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00000" y="2637000"/>
            <a:ext cx="2016360" cy="5205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3564000" y="1628640"/>
            <a:ext cx="4481280" cy="1914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nivel de la FBF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611280" y="5157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3780000" y="400536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+)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611280" y="4149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3924360" y="515772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-)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LUCO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biosíntesis de glucógeno está coordinada recíprocamente con la degradació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9440" y="333360"/>
            <a:ext cx="89265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zimas que intervienen en el proceso de sintesis de glucógeno o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11280" y="2133720"/>
            <a:ext cx="7162560" cy="280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Fosfoglucomu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Enzima ramific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380880"/>
            <a:ext cx="8458200" cy="132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Fosfoglucomut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6-P                              GLU-1-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048120" y="121932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7200" y="2209680"/>
            <a:ext cx="845820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1-P   + UTP                   UDP GLU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3809880" y="297180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3733920"/>
            <a:ext cx="84582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Glucogeno sintasa ó sinte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UDP GLU + Glucogeno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cogeno (n+ 1) +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2666880" y="4724280"/>
            <a:ext cx="914400" cy="8384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 rot="20625000">
            <a:off x="5650560" y="465264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5280" y="1197000"/>
            <a:ext cx="8458200" cy="253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Enzima ramificante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4437000"/>
            <a:ext cx="85341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700360" y="2492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UIS LELOIR (1906-1988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52388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ó el papel de la UDP.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73" name="Picture 6" descr="udpglu"/>
            <p:cNvPicPr/>
            <p:nvPr/>
          </p:nvPicPr>
          <p:blipFill>
            <a:blip r:embed="rId2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2590920" y="358128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80" name="Picture 13" descr="udpglu"/>
            <p:cNvPicPr/>
            <p:nvPr/>
          </p:nvPicPr>
          <p:blipFill>
            <a:blip r:embed="rId3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82" name="Picture 15" descr="udpglu"/>
              <p:cNvPicPr/>
              <p:nvPr/>
            </p:nvPicPr>
            <p:blipFill>
              <a:blip r:embed="rId4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853240" y="4110120"/>
            <a:ext cx="15984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LA 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sto Energético en la Glucógeno-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UT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UDP  +  ATP =   UTP  +  A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drólisis PP  a  2 Pi (se rompe una unión de alta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la unión de una molécula de glucosa se gastan 2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4356000" y="292428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3:15:38Z</dcterms:created>
  <dc:creator>Usuario</dc:creator>
  <dc:description/>
  <dc:language>en-US</dc:language>
  <cp:lastModifiedBy>Usuario</cp:lastModifiedBy>
  <dcterms:modified xsi:type="dcterms:W3CDTF">2012-04-13T23:13:58Z</dcterms:modified>
  <cp:revision>31</cp:revision>
  <dc:subject/>
  <dc:title>Diapositiva 1</dc:title>
</cp:coreProperties>
</file>